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3B2E0-7516-41FC-89CD-804990869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C1D40-BFEF-4697-B523-4D6268C5A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1217A-2062-4C97-A883-FB2C74084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22992-5E63-4586-8D53-2C0E39F8E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1C25-E334-421F-AB39-CB486EFDE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0C79C-8FB4-4F0C-BD59-E966B69E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ADC5D-9732-48BD-A236-0F2A76AD7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5C97-0B5E-4234-934E-68FF432C8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B671-BC64-4ECD-8048-1D425CCF0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1220-0E0E-46CC-BC74-DA991B4D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C216-3825-4D7E-84ED-58D5C63E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13AA-273E-49CD-A4AB-16C8DC13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45A3-9464-4F6E-8D26-574B286BB950}"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836640"/>
            <a:ext cx="4608360" cy="5472000"/>
          </a:xfrm>
          <a:prstGeom prst="rect">
            <a:avLst/>
          </a:prstGeom>
          <a:noFill/>
          <a:ln w="0">
            <a:noFill/>
          </a:ln>
        </p:spPr>
        <p:txBody>
          <a:bodyPr anchor="t">
            <a:norm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5" name="Picture 6" descr="comp_i"/>
          <p:cNvPicPr/>
          <p:nvPr/>
        </p:nvPicPr>
        <p:blipFill>
          <a:blip r:embed="rId1"/>
          <a:stretch/>
        </p:blipFill>
        <p:spPr>
          <a:xfrm>
            <a:off x="5724360" y="1989000"/>
            <a:ext cx="2581560" cy="2581560"/>
          </a:xfrm>
          <a:prstGeom prst="rect">
            <a:avLst/>
          </a:prstGeom>
          <a:ln w="0">
            <a:noFill/>
          </a:ln>
        </p:spPr>
      </p:pic>
      <p:sp>
        <p:nvSpPr>
          <p:cNvPr id="46"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8"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0Z</dcterms:modified>
  <cp:revision>2</cp:revision>
  <dc:subject>CNEE</dc:subject>
  <dc:title>CNEE</dc:title>
</cp:coreProperties>
</file>